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8D03-3755-4D6C-9564-C4AFC7F06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3EFF-3E5F-483E-BED0-6BB3C8EC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F7D5-A30F-4B4A-8896-DB23D39FF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1E29-9C95-4D08-A716-E35E3351C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9238-C732-495A-A4C0-E479C781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C8EC-6227-43E7-B581-B8C55F59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E63E-2422-4DC7-80E4-3FBDB3AD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33C2-7751-44C3-A11D-DBAE498A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79B3-2825-4FDC-8142-E2BB7089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429A-75E9-48B7-BC6E-09431C13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0B34-A71F-4221-A906-5F7E4C6C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9EB1-05EF-4E16-B9C5-897EB282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BC11-9C5F-49F0-8AAC-745FB0ED8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59480" y="824760"/>
            <a:ext cx="7026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. Comment ne pas te lo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ent ne pas te louer (x 3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igneur Jésus ! Comment ? Comment ?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- Quand je regarde autour de moi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 vois ta gloire Seigneur Jésus, je te béni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 ne pas te louer Seigneur Jésus 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 ? Comment ?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- Quand je regarde autour de moi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 vois mes frères Seigneur Jésus, merci pour eux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 ne pas te louer Seigneur Jésus 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 ? Commen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496600" y="799200"/>
            <a:ext cx="415044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92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0. Acclamez Dieu toute la ter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cclamez Dieu toute la ter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z-le dans l'allégress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ez à lui avec des chants de joi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 éternel est son amour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éluia, Alléluia, Alléluia, Alléluia !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Lui, le Seigneur est notre Dieu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us le troupeau de son bercail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nous a faits et nous sommes à lui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 éternel est son amour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llez à lui en rendant grâc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s ses parvis avec des hymn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dez-lui grâce et bénissez son Nom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 éternel est son amo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29120" y="90000"/>
            <a:ext cx="8285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11. Alleg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. Rassemblés dans une seule foi, un seul coeur pour te louer.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antons nos hymnes de joie, ô Seigneur ressuscité !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posons tout, devant toi, en ton coeur si assoiffé.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issons toutes nos voix, pour acclamer ta bonté ! Nous venons à toi ! </a:t>
            </a:r>
            <a:br>
              <a:rPr sz="1800"/>
            </a:b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. Alegria, Alegria, Mon âme exalte le Seigneur,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legria, Alegria, Jésus, vient habiter nos coeurs ! </a:t>
            </a:r>
            <a:br>
              <a:rPr sz="1800"/>
            </a:b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. Ô Marie, Vierge Bénie, tu nous accueilles aujourd'hui.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ui, l'enfant qui en toi, est mon Dieu, il est mon Roi !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parole est accomplie qui prend chair en toi Marie.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vec toi, je crie de joie, en Jésus, Dieu vient à moi ! Nous venons à toi !</a:t>
            </a:r>
            <a:br>
              <a:rPr sz="1800"/>
            </a:b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. Notre Dame et Notre Mère, debout au creux du rocher,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 voici devant mes yeux, donne-moi d'aller à Dieu.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vec toi je veux prier, implorer, intercéder :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ésus Fils de Dieu Sauveur, prends pitié de nous pécheurs! Nous venons à toi ! </a:t>
            </a:r>
            <a:br>
              <a:rPr sz="1800"/>
            </a:b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. Toi la Mère du Seigneur, près de lui jusqu'à la Croix,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emme au courage infini, toi qui as porté la Vie,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onne-moi de t'écouter, d'être là à tes côtés,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yeux fixés sur Jésus, lui ma force et mon Salut. Nous venons à toi 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721960" y="-44640"/>
            <a:ext cx="369972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2. Hosanna, ouvrons les por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anna, hosa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vrons les portes au Ro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 Dieu de gloi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çons des cris de joi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issons jaill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chant de victoir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anna, hosanna, hosanna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Marchons ensemb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'ennemi tremb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u est avec nou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ssons les ténèb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Qui pourra 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re priè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u est avec nou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ons sa banniè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Dansons devant Lu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plis de sa v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u est avec nou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tons sa lou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160" y="459000"/>
            <a:ext cx="4595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3. Il est temps de quitter vos tombe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. Il est temps de quitter vos tombeaux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sortir du sommeil de la nuit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'aller vers la lumière acclamer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Dieu trois fois Saint ! (bis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Vainqueur de la nuit, Christ ressuscité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dévoiles la face du Père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es la lumière, tu es notre joie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is béni, ô Dieu qui nous libères !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Unis à ton corps, Christ ressuscité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nous mènes à la gloire éternelle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présentes au Père ceux qu'il t'a confiés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is loué, reçois notre prière !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59120" y="2362680"/>
            <a:ext cx="4479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Tu donnes l'Esprit, Christ ressuscité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déverses les fleuves d'eaux vives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s aimé du Père tu nous as sauvés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ire à toi, pour ta miséricorde !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Roi de l'univers, Christ ressuscité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i qui trônes à la droite du Père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viens dans la Gloire pour nous relever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Ô Seigneur que s'ouvre ton Royaume 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110760" y="227880"/>
            <a:ext cx="29224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14. Alleluia 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lléluia hé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lléluia héhéhé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lléluia hé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lléluia héhéhé </a:t>
            </a:r>
            <a:br>
              <a:rPr sz="1800"/>
            </a:b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ouons le Seigneur (x2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llélu- Alléluia- Alléluia hé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cclamons Jésus (x2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llélu- Alléluia- Alléluia hé </a:t>
            </a:r>
            <a:br>
              <a:rPr sz="1800"/>
            </a:b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rist est ressucité (x2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llélu- Alluia- alléluia Hé </a:t>
            </a:r>
            <a:br>
              <a:rPr sz="1800"/>
            </a:b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ouons tous Jésus (x2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llélu- Alluia- alléluia Hé </a:t>
            </a:r>
            <a:br>
              <a:rPr sz="1800"/>
            </a:b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n veut semer la joie ! (x2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llélu- Alluia- alléluia Hé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788480" y="227880"/>
            <a:ext cx="55666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5. Au cœur des montag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Au cœur des montagnes des champs des rivières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 chemins des clairières 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 fleurs s'élancent et battent en cœur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 rythme du bonheur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 froids les pluies les mauvais temp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 neige les glaces le ve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 froids les pluies les mauvais temp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 neige les glaces le vent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 toute la Terre loue son cré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 montagnes et les mers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uent le Dieu vainqueur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 toute la Terre loue son créateur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 création du Père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ue le Dieu vainqueur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es abeilles aux lavandes des aigles aux poiss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us Chantent pour Die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 cet arc-en-ciel illuminant le ci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 merveilles en mervei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182680" y="776520"/>
            <a:ext cx="4778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16. Vous recevrez une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- Vous recevrez une force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elle de l'Esprit Saint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us deviendrez des apôtres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 son nom élevez les mains (bis)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- Viens Saint Esprit embraser les nations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Viens Saint Esprit sur cette génération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Viens Saint Esprit embraser les nations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Viens Saint Esprit sur cette génération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ohoho...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- Vous partirez sur les routes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clamer "Jésus est la vie"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 vous n'aurez aucun doute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mbrasés par le Saint Esprit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687960"/>
            <a:ext cx="6343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7. Nous dan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Dieu est dans nos villes 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u est dans nos places 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u est dans nos hymnes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u est sur nos traces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re Dieu est là, là où on ne l’attend pas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us dansons, nous dansons pour notre génér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us prions, nous prions parmi les acclamation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levons nos mains vers lui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us marchons, nous marchons, reçois notre ador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us venons, nous venons élever ton Saint No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re Dieu est avec nous, maintenant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Dieu est dans nos yeux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u est dans nos mains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u est sur nos lèvres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u est dans nos voix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re Dieu est là, là où on ne l’attend pas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121932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ieu dans notre histoire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u dans notre temps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u dans nos mémoires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u est là partout présent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re Dieu est là, là où on ne l’attend pas 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480060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ève-toi, lève toi, Ton Dieu a besoin de toi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us voici, nous voici là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ève-toi, lève-toi, Rien ne se fera sans toi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us voici, nous voici là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078280" y="1325520"/>
            <a:ext cx="4987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8. Bondiss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ésus seul est ma lumière mon abri mon roch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ui qui me libère me remplit de Sa paix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est grand Il est fort Il est bon mon Die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ésus seul est ma lumière mon abri mon roch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ndissez de joi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vons notre Ro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usse des cris de joi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sons pour notre Ro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sez! 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uez chantez pour votre Dieu(bi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uez dansez bénissez Dieu (bis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331360" y="1920600"/>
            <a:ext cx="448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19. Abba P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Quand le bonheur s’en va va 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 que je reste là là l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n esprit dit tout bas bas 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Que tu es mon Papa Pa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bba Père X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79840" y="459360"/>
            <a:ext cx="73861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. Bénissez Di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énissez Dieu, vous serviteurs de Die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us tous qui demeurez, dans la maison de Die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z les mains vers le Dieu trois fois s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lamez qu'il est bon, que son Nom et Puiss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Oui, je le sais : notre Seigneur est gr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ut ce qu’il veut, sa main peut l’accompl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 fond des mers jusqu’au fond des abîm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uis la terre jusqu’au plus haut du ciel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Reconnaissez que le Seigneur est b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est fidèle en tout ce qu’il a fa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 veux chanter la douceur de son N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éni soit Dieu par toutes les nations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140120" y="-46440"/>
            <a:ext cx="68634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0. Notre Père (EX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re Père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 es au Cieux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ton nom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it sanctifié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ton règne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nne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ta volonté soit faite sur la terre comme au Ci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e au Ci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ne-nous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re pain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jourd’hui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 demain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donne-nous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s offenses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e nous les pardonnons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ous ceux qui nous ont offensés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 nous soumets pas à la tentation mais délivre-nous du mal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 c’est à toi qu’appartiennent, pour les siècles des siè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règne la puissance et la gl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règne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puissance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règne la puissance et la gloire (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48680" y="687600"/>
            <a:ext cx="61988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1. Oui Seigneur tu es 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i, Seigneur, tu es bon, oui, Seigneur, tu es ma force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i, Seigneur, tu es bon, alléluia !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Crions de joie pour le Seigneur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tons, remplis d´amour pour lui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m´a guéri, m´a délivré, alléluia !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Ma force et ma joie sont en lui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i, mon rempart c´est son Espri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terre est pleine de son amour, alléluia !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Ta croix, Jésus, m´a délivré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mon angoisse, de mon péché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 côté ouvert m´a guéri, alléluia !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20960" y="2057400"/>
            <a:ext cx="4518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Oh ! oui, Seigneur, tu es ma forc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i ma lumière et mon salu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 confiance est dans ton amour, alléluia !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Père très bon, Dieu d´Abraham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ésus, Sauveur du monde entier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rit de feu, torrent de joie, alléluia !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Merci, Seigneur, pour ton Espri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 pour ta grâce mise en nos cœur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i pour nos vies purifiées, alléluia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070720" y="502200"/>
            <a:ext cx="50025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22. Je t’exalte ô roi mon Di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Je t’exalte, ô roi mon Dieu,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Je bénis ton nom à jamais,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Je veux te bénir chaque jour,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ouer ton nom toujours et à jamais.</a:t>
            </a:r>
            <a:br>
              <a:rPr sz="1800"/>
            </a:b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. Le Seigneur est tendresse et pitié,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I est lent à la colère et plein d'amour,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Seigneur est bonté envers tous,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s tendresses vont à toutes ses oeuvres.</a:t>
            </a:r>
            <a:br>
              <a:rPr sz="1800"/>
            </a:b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. Que tes oeuvres, Seigneur, te rendent grâce,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e tes amis bénissent ton nom,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'ils disent la gloire de ton règne,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'ils parlent, ô Dieu de ta promesse.</a:t>
            </a:r>
            <a:br>
              <a:rPr sz="1800"/>
            </a:b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. Je veux dire la louange du Seigneur,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e toute chair bénisse son Saint Nom,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intenant, toujours et à jamais,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lléluia, Allélu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1960" y="551160"/>
            <a:ext cx="4792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3. Criez de joie vous les pauvres de cœ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iez de joie, vous les pauvres de cœur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us les enfants bien-aimés du Seigneur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vrez les yeux, car le Royaume est là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ici pour vous le Sauveur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Je bénirai le Seigneur en tout temps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 âme exulte et jubile en mon Dieu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les petits écoutent et crient de joie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ureux, car ils verront Dieu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Venez chanter, magnifier le Seigneur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d je l´appelle, toujours il répon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mes frayeurs, il vient me délivrer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 nom de gloire est puissant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73160" y="2590920"/>
            <a:ext cx="446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Tournez les yeux, regardez notre Dieu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 le contemple, par lui resplendi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pauvre crie le Seigneur lui répon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yez, le Seigneur est bon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Heureux celui qui prend refuge en Dieu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 le choisit ne manquera de rien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coute-le, et recherche la paix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lui, fais ce qui est bi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5880" y="307440"/>
            <a:ext cx="40759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4. Par toute la te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Par toute la terre il nous envoi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émoigner de son Amour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lamer son Nom et son Salut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s la force de l'Esprit !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 nos yeux ont vu et reconnu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Sauveur ressuscité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Saint d'Israël, né de Marie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s de Dieu qui donne vie !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Par sa vie donnée, son sang versé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a racheté nos vies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détruit les portes des enfers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nous sauve du péché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À tout homme il offre le Salut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gratuit de son Amour 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vons dans sa gloire et sa clarté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enant et à jamais !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744800" y="990720"/>
            <a:ext cx="439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. Criez de joie, Christ est ressuscité !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 nous envoie annoncer la vérité !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iez de joie, brûlez de son amour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 il est là, avec nous pour toujours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956840" y="3886200"/>
            <a:ext cx="405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Pour porter la joie Il nous envoie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rs de son Salut !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uvres serviteurs qu'il a choisis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acrés pour l'annoncer !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nos lèvres chantent sa bonté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splendeur de son dessein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ire à notre Dieu, Roi tout puissant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ternel est son amour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400" y="763920"/>
            <a:ext cx="4618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5. Célébrez la bonté du Seign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élébrez la bonté du Seigneu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yez sûr de l’amour du Sauveur !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yez toujours foi en lui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tous temps il vous conduit 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ésus Christ vous a livré sa vi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– En tous lieux rendez grâce au Seigneur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s la joie la peine et la douleur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u est là, avec nous pour toujour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en ne peut nous séparer de lui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Peuple Saint, adorez votre Roi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Seigneur victorieux du comba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salut est venu par la croix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mais son amour règnera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00600" y="297180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De son sein jaillit l’eau de la vi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 la croix, il a tout accompli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 ses plaies, il nous envoie l’Esprit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ts d’amour qui nous donnent la vi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Accueillez son Amour en vos vi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ant la croix contemplez Mari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éditez la Parole, espérez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u demeure avec nous, jubilez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325520" y="1875600"/>
            <a:ext cx="6492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26. Laudate domi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udate dominum laudate domi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mnes gentes allelu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ouez Dieu, louez Dieu dans son temple saint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ouez-le au ciel de sa puissance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ouez-le pour ses actions éclatantes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ouez-le, louez-le selon sa grandeur, Alléluia, Alléluia.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e tout être vivant chante louange Seigneur, Alléluia, Alléluia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e tout être vivant chante louange Seigne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441520" y="641880"/>
            <a:ext cx="4260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27. A toi puissance et gl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 Toi puissance et gloire,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 Toi honneur et force,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 Toi la majesté, ô Dieu à jamais 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oi l’agneau immolé (bis)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u t’es livré pour nous (bis)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u as versé ton sang (bis)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ur nous sau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. Et Dieu t’a exalté (bis)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l t’a donné le nom (bis)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u-dessus de tout nom (bis)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ésus vainque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. Sur la terre et aux cieux (bis)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out genou fléchira (bis)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oute langue dira (bis)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u es Seigneur 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5360" y="246600"/>
            <a:ext cx="5842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28. So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. Le son de nos voix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aillit comme un cri de joie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’écho de ce chant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tentira sur la te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attons des mains. Elevons-Le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hantons son Nom. Il est Die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anse Danse Danse pour ton Dieu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onne Sonne Sonne, Il est grand Il est glorieux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anse Danse Danse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onne Sonne So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. Entend cet appel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onter pour Toi, vers le ciel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is ta création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i se lève pour Ton Règ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65960" y="4419720"/>
            <a:ext cx="270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out ! Pour notre Die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out ! Elevons-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out ! Acclamons 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out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-337320" y="2880"/>
            <a:ext cx="53550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9. Je p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prie pour les homm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prie pour les fem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prie pour les enfant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r le repos des â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prie pour les mien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prie pour ceux que j’a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prie pour les autres auss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le père les souti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prie pour ces ge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je ne connais 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prie aussi pour ceu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je n’aime 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prie pour la France, je prie pour le mo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 je prie aussi pour t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Ô mon Dieu écoute mes priè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Ô Seigneur, reçois mes requê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Ô Mon Dieu, en Toi j’espè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s toujours que ta volonté soit fa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29200" y="533520"/>
            <a:ext cx="457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Je prie pour les jeun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prie pour leurs proj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prie pour que Di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claire leurs v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prie pour mes parent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leur rends grâ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m’avo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né la 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prie pour les prêtr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Evêques les diac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r sacerdo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r la Gloire de Di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prie pour la France, je prie pour le mo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 je prie aussi pour t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2880"/>
            <a:ext cx="8991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3. Que vienne ton règ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 vienne ton Règne, que ton nom soit sanctifié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r la terre comme au Ciel, que ta volonté soit faite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 coule en torrent ton Esprit de vérité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nne-nous ton espérance, ton amour, ta Sainteté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5120" y="2513160"/>
            <a:ext cx="3507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- Qui pourrait nous sépare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ton amour Immense 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i pourrait nous détourne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ta miséricorde ?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Tu habites nos louange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 inspires nos prièr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us attires en ta prés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ur nous tourner v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s frère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90640" y="2131920"/>
            <a:ext cx="36219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livre-nous de tout mal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onne la paix à ce temps !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ibère-nous du péché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oi qui fais miséricorde !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assure-nous dans l'épreuve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ous espérons ton Royaume !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u nous promets le bonheur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'Avènement de Jésus !</a:t>
            </a:r>
            <a:br>
              <a:rPr sz="2000"/>
            </a:b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3. Tu seras notre lumière,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l n'y aura plus de nuit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on Nom sera sur nos lèvres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 larmes, il n'y aura pl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438280" y="177480"/>
            <a:ext cx="4159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30. Alleluia Louez le Seign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lleluia (x6) Alleluia allé, alleluia (x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. Dans son temple Sa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u ciel de puiss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ouez le Seigneur allelu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lon sa grande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s actions éclata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ouez le Seigneur allelu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. En sonnant du c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harpe et la cith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ouez le Seigneur allelu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flûtes et les cor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danse et le tamb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ouez le Seigneur allelu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. Par les cymbales son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cymbales triompha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ouez le Seigneur allelu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e tout être viv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ante la lou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ouez le Seigneur allelu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832040" y="1112040"/>
            <a:ext cx="5587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50. Esprit Saint en nos cœ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rit Saint, en nos cœurs, tu descends, tu desc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851120" y="1737720"/>
            <a:ext cx="5441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51. Nous t’ado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us t'adorons, o Père dans ton templ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us t'adorons en esprit et en vérité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habites nous louang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us t'adorons en esprit et en vérit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 un jour près de Toi vaut mieux que mille ailleu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désire habiter dans ton temp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 un jour près de Toi vaut mieux que mille ailleu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désire habiter dans Ta maison Seigneu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désirer habiter dans Ta maison Seigne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120" y="284040"/>
            <a:ext cx="5548320" cy="66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52. Notre Dieu s’est fait hom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- Notre Dieu s'est fait homme pour que l'homme soit Dieu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ystère inépuisable, fontaine du Salut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d Dieu dresse la table, Il convie ses ami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ur que sa vie divine soit aussi notre vie!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- Le Seigneur nous convoque par le feu de l'Espri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 banquet de ses noces célébrées dans la joi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us sommes son Eglise, l'Epouse qu'il choisit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ur vivre son alliance et partager sa vie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- Merveille des merveilles, miracle de ce jour!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ur nous Dieu s'abandonne en cette Eucharisti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ssons toute indolence, le Christ est parmi nou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ueillons sa présence et offrons-nous à lui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- Dieu se fait nourriture pour demeurer en nou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 se fait vulnérable et nous attire à lui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ystère d'indigence d'un Dieu qui s'humili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ur que sa créature soit transformée en lui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38200" y="2514600"/>
            <a:ext cx="50011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 - II frappe à notre porte le Seigneur Tout-Puissant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 attend humble et pauvre, mendiant de notre amour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énudé d'arrogance, sous l'aspect de ce pai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 se donne en offrande pour demeurer en nous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- Que nos cœurs reconnaissent en ce pain et ce vi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'Unique nécessaire qui surpasse tout bien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 que nos yeux contemplent, sans beauté ni éclat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'est l'Amour qui s'abaisse et nous élève à lu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32320" y="778320"/>
            <a:ext cx="7479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53. A l’agneau de Di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vé à la droite de Dieu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onné de mille couronn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resplendis comme un soleil radieux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êtres crient autour de ton trône :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'Agneau de Dieu soit la gloire, A l'Agneau de Dieu la victoi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'Agneau de Dieu soit le règne Pour tous les siècles, amen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L'Esprit saint et l'épouse fidè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ent: "viens !" c'est leur cœur qui appell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ns, ô Jésus, toi l'époux bien aimé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us tes élus ne cessent de chanter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Tous les peuples et toutes les nations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'un seul cœur avec les milliers d'ang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onneront en l'honneur de son no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 chant de gloire, avec force et louan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541600" y="2422440"/>
            <a:ext cx="4060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54. Vous serez vraiment gr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us serez vraiment grand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s la mesure où vous êtes petit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us serez alors grands dans l´am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us serez alors grands dans l´am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7240" y="1463040"/>
            <a:ext cx="4709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55. Mon père je m’abandonne à T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 Père, mon Père, je m'abandonne à toi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s de moi ce qu'il te plaira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i que tu fasses je te remercie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suis prêt à tout, j'accepte tou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 tu es mon père, je m'abandonne à toi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 tu es mon Père, je me confie en toi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 Père, mon Père, en toi je me confie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tes mains je mets mon espri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te le donne, le cœur plein d'amour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n'ai qu'un désir, t'apparteni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15080" y="534600"/>
            <a:ext cx="4707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56. Prosternez-v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sternez-vous devant votre R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orez-Le de tout votre cœ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tes monter vers Sa majes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chants de gloire pour votre Roi des R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33080" y="338040"/>
            <a:ext cx="4678200" cy="61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9200" tIns="15228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57. Céleste Jérusa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re cité se trouve dans les cieux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us verrons l’Epouse de l’Agneau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plendissante de la gloire de Dieu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éleste Jérusa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Agneau deviendra notre flambeau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us nous passerons du soleil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n’y aura plus jamais de nuit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u répandra sur nous sa lumiè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ieu aura sa demeure avec nou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essuiera les larmes de nos yeux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n’y aura plus de pleurs ni de pein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 l’ancien monde s’en est all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Et maintenant, voici le salut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règne et la puissance de Dieu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yez donc dans la joie vous les Cieux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règnera sans fin dans les siè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056320" y="610920"/>
            <a:ext cx="5028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58. Adorez-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orez-le, bénissez-le !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 la louange de vos chants le glorifie !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orez-le, bénissez-le !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 de vos cœurs jaillisse le feu de l'Esprit !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- Aujourd'hui, approchez-vous de Lui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sentez-lui l'offrande de vos vies !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D'un seul cœur, louez votre Seigneu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son amour transforme vos v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405440" y="232560"/>
            <a:ext cx="63331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4. Qu’exulte tout l’un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'exulte tout l'univers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 soit chantée en tous lieux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puissance de Dieu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s une même allégress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re et cieux dansent de joie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tent allélu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Par amour des pécheurs, la lumière est venu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e a changé les cœurs, de tous ceux qui l'ont reconn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Vous étiez dans la nuit, maintenant jubil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u vous donne la vie, par amour il s'est incarn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Exultez rendez gloire, chantez que Dieu est b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 est notre victoire, Il est notre Résur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Que chacun reconnaisse : Jésus est notre Ro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jetons nos tristesses, pour une éternité de jo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Toi l'unique Seigneur, envoie l'Esprit d'amo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ns régner dans nos cœurs, nous voulons hâter ton reto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6840" y="230760"/>
            <a:ext cx="37407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59. C’est par ta grâ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Tout mon être cherch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´où viendra le secours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 secours est en Dieu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 a créé les cieux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toute détress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vient me libérer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i le Dieu fidè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toute éternité.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´est par ta grâce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 je peux m´approcher de toi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´est par ta grâce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 je suis racheté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 fais de moi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e nouvelle création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la mort, tu m´as sauvé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 ta résurrection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1560" y="2362320"/>
            <a:ext cx="297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Tu connais mes craint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connais mes pensée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nt que je naiss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m´avais appelé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ujours tu pardonn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´un amour infini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 miséricor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 un chemin de v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473200" y="227880"/>
            <a:ext cx="41979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60. Viens souffle de Dieu vi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Viens, souffle de Dieu, viens !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ns, hôte très doux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ns, souffle de Dieu, viens !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de-nous, scrute-nous.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claire-nous, Esprit de Dieu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 brille la vérité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onde-nous de ta clarté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ens nous transformer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prit de Dieu, viens en nos cœurs !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prit de Dieu, viens en nos cœurs !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Viens, souffle de Dieu, viens 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ns, Maître en nos cœur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ns, souffle de Dieu, viens 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de-nous, conduis-no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Viens, souffle de Dieu, viens 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ns, flamme d´amour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ns, souffle de Dieu, viens 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ûle-nous de ton feu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13720" y="914760"/>
            <a:ext cx="2716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61. Pour tant de grâ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r tant de grâ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r tant de tend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r tant d’am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mon Di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r tant de bo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r tant d’allég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mon Di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us te bénis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us te rendons grâ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r ton  immense gl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Roi du Ci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ère tout puiss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Mon Di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640" y="475200"/>
            <a:ext cx="4425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80. Tu as porté celui qui porte t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 as porté celui qui porte tout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re Sauveur en ton sein a pris chair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e du Ciel, Reine de l´univers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Ô Marie, nous te saluons !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Par amour, ton Dieu t´a choisie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ge bénie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Seigneur exulte pour toi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es sa joie !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Tu accueilles, servante de Dieu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´ange des Cieux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promesse en toi s´accomplit 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as dit ´ oui ´!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80880" y="2286000"/>
            <a:ext cx="3871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L´Esprit Saint est venu sur toi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lue du Roi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nous donnes l´Emmanuel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Ève nouvelle !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Mère aimante, au pied de la croix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nous reçoi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 Jésus nous sommes confié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À ta bonté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Dans sa gloire, Dieu t´a accueill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près de lui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deviens, joie de l´Éternel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ine du Ciel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625200" y="1190520"/>
            <a:ext cx="1893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81. Totus tu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otus tuus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ria !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ratia plena,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ominus tecum !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otus tuus,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ra pro nobis,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ria, Ma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600" y="322560"/>
            <a:ext cx="4321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82. Regarde l'éto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Si le vent des tentations s'élève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tu heurtes le rocher des épreuves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les flots de l'ambition t'entraînent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l'orage des passions se déchaîne :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arde l’étoile, invoque Marie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 tu la suis, tu ne crains rien !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arde l’étoile, invoque Marie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le te conduit sur le chemin !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ans l'angoisse et les périls, le doute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d la nuit du désespoir te recouvre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devant la gravité de tes faut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pensée du jugement te tourmente :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37720" y="1066680"/>
            <a:ext cx="47023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. Si ton âme est envahie de colère,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alousie et trahison te submergent.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i ton coeur est englouti dans le gouffre,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mporté par les courants de tristesse : </a:t>
            </a:r>
            <a:br>
              <a:rPr sz="1800"/>
            </a:b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. Elle se lève sur la mer, elle éclaire,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n éclat et ses rayons illuminent.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a lumière resplendit sur la terre,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ans les cieux et jusqu'au fond des abîmes. </a:t>
            </a:r>
            <a:br>
              <a:rPr sz="1800"/>
            </a:b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DA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i tu la suis, tu ne dévies pas,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i tu la pries, tu ne faiblis pas.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u ne crains rien, elle est avec toi,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 jusqu’au port, elle te guidera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286360" y="1328760"/>
            <a:ext cx="4571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83. Je te salue Marie (Glorio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e te salue Marie, comblée de grâ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Seigneur est avec t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u es bénie Marie, entre toutes les fem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 Jésus le fruit de tes entrailles est bé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ainte Marie, Mère de Di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Ô prie pour nous, pauvres pêch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ès maintenant et jusqu’à l’he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 notre mort, A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ve Maria, ave 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ve Maria, Ave 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000" y="137880"/>
            <a:ext cx="4821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5. Bénissez le Seign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. Vous les cieux, des eaux dessus les cieux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énissez le Seigneur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us la lune, Le ciel et les étoiles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énissez le Seigneur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 vous les jeunes, De la terre entière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énissez le Seigneur</a:t>
            </a:r>
            <a:br>
              <a:rPr sz="1800"/>
            </a:b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out c’que je veux c’est Te louer mon Dieu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out c’que je veux T’élever dans les Cieux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out c’que je veux c’est Te louer mon Dieu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out c’que je veux T’élever dans les Cieux</a:t>
            </a:r>
            <a:br>
              <a:rPr sz="1800"/>
            </a:b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Nana Na na na na na Nana nana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2200" y="4724280"/>
            <a:ext cx="4354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Vous son peuple et tous ses serviteu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énissez le Seigneu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us les Saints et les humbles de cœu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énissez le Seigneu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 vous les jeunes de la terre entiè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énissez le Seign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04560" y="4800600"/>
            <a:ext cx="4188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Lumière et ténèbres, éclairs et nué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énissez le Seigneu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its et jours, les abîmes et la clarté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énissez le Seigneu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 vous les jeunes, de la terre entiè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énissez le Seign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34800" y="-49680"/>
            <a:ext cx="84744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6. Que ma bouche chante ta louange 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. De toi Seigneur nous attendons la vie,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Que ma bouche chante ta louange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u es pour nous un rempart un appui,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Que ma bouche chante ta louange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joie du cœur vient de toi ô Seigneur,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Que ma bouche chante ta louange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tre confiance est dans ton nom très Saint,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Que ma bouche chante ta louange</a:t>
            </a:r>
            <a:br>
              <a:rPr sz="1800"/>
            </a:b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oit loué, Seigneur, pour ta grandeur, soit loué pour tous tes bienfaits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loire à toi, Seigneur, tu es vainqueur, ton amour inonde nos cœurs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Que ma bouche chante ta louange</a:t>
            </a:r>
            <a:br>
              <a:rPr sz="1800"/>
            </a:b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. Seigneur tu as éclairé notre nuit...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u es lumière et clarté sur nos pas...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u affermis nos mains pour le combat...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igneur, tu nous fortifies dans la foi...</a:t>
            </a:r>
            <a:br>
              <a:rPr sz="1800"/>
            </a:b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. Tu viens sauver tes enfants égarés...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i dans leur cœur espèrent en ton amour...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ans leur angoisse ils ont crié vers toi...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igneur tu entends le son de leur voix...</a:t>
            </a:r>
            <a:br>
              <a:rPr sz="1800"/>
            </a:b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. Des ennemis toi tu m'as délivré...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 l'agresseur tu m'as fait triompher...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e te rends grâce au milieu des nations...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igneur en tout temps je fête ton nom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43280" y="-43200"/>
            <a:ext cx="705744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7. Jubilez, criez de joie 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bilez ! Criez de joie ! Acclamez le Dieu trois fois Saint 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nez le prier dans la paix ; témoigner de son am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bilez ! Criez de joie ! pour Dieu notre Die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uez le Dieu de lumiè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nous arrache aux ténè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nez en sa clar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enfants de sa lumiè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Ouvrez-vous, ouvrez vos cœ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 Dieu de misérico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issez-vous réconci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issez-vous transfigu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À l’ouvrage de sa grâ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rez toute votre 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pourra vous transfor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i, le Dieu qui sanctif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Louange au Père et au F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uange à l’Esprit de gl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enheureuse Trinité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re joie et notre vie 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7320" y="230040"/>
            <a:ext cx="430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8. Alléluia, Jubilate </a:t>
            </a:r>
            <a:br>
              <a:rPr sz="1800"/>
            </a:b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lléluia, Alléluia,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Jubilate Deo.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lléluia, Alléluia,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Jubilate, Alléluia. </a:t>
            </a:r>
            <a:br>
              <a:rPr sz="1800"/>
            </a:b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. Louez Dieu car il est bon, alléluia !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n Amour est éternel, alléluia !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 l'Orient à l'Occident, alléluia !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énissons Dieu pour ses merveilles, </a:t>
            </a:r>
            <a:br>
              <a:rPr sz="1800"/>
            </a:b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. Dieu le Père a envoyé, alléluia !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ésus-Christ pour nous sauver, alléluia !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ierge Marie, tu as dit « oui », alléluia !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'Emmanuel en toi prend chair, alléluia 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16280" y="2134080"/>
            <a:ext cx="4522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. Ô Seigneur dans ta passion, alléluia !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u as porté chacun de nous, alléluia !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 l'ennemi et du péché, alléluia !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u es vainqueur, ressuscité, alléluia ! </a:t>
            </a:r>
            <a:br>
              <a:rPr sz="1800"/>
            </a:b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. Pour toujours, tu es vivant, alléluia !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 ton coeur, brasier ardent, alléluia !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us puisons l'esprit de vie, alléluia !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ur t'annoncer au monde entier : alléluia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52400" y="914760"/>
            <a:ext cx="5839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9. Acclamez terre entiè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cclamez terre entière, chantez à pleine voi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a pris vos misères par sa mort sur la croi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’est le Dieu de vos pères vainqueur de vos comba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lamez terre entière, chantez alléluia !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éluia, alléluia, alléluia, alléluia ! (BIS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Il a fait des merveilles c’est Lui le tout puissa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 amour est fidèle nous sommes ses enfa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 son de la trompette et tous les instru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ultez terre entière, laissez jaillir ce chant !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Il est roi de la terre et tous ses habita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’est en Lui que j’espère car Il est bien prés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la mer ses richesses, les montagnes et les champ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lament sans cesse ; Lui redisent ce ch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IRSIM</cp:lastModifiedBy>
  <dcterms:modified xsi:type="dcterms:W3CDTF">2014-11-07T15:48:19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